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5707-6B9B-4FA7-B97C-2211D78D6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1835-B25B-4CEF-831A-273B06AB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1687-26DD-4D00-8E46-DBF531803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4CB3-04D6-43C2-8328-D51DD65ED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D488-B993-4547-830C-A32442BF2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CC10-3BF6-4FE7-B283-9A4572DF9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A881-C908-4D42-889C-0A1CF320F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CC04-95B2-4939-A435-CCF672AD5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D461-01BB-4F5F-9B8B-1CB5B1CE8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5DAF-7537-4AA4-853B-D6584D73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16F2-FDA7-4294-A12F-5B09F63F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6F46-CA3F-4254-B9BC-F8DB4A8A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7D3BB-AA39-4528-B277-F539FA2FA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PieColo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57300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струмент, для создания круговых диаграмм on-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227640" y="5661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убарева Л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гистрация на сайте не требуется. Можно сразу приступать к созданию диа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7134480" cy="5457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835280" y="3213000"/>
            <a:ext cx="1008000" cy="216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24360" y="314172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Ввести количество долей (до 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43280" y="3357720"/>
            <a:ext cx="115236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4000" y="115920"/>
            <a:ext cx="8569080" cy="6561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372360" y="62064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Названия до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067280" y="61452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Цвет до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42920" y="62064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Процентное соотно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1052640"/>
            <a:ext cx="1224000" cy="1871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619280" y="980640"/>
            <a:ext cx="28872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19640" y="981000"/>
            <a:ext cx="936720" cy="2087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4788000" y="980640"/>
            <a:ext cx="50472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227640" y="1052640"/>
            <a:ext cx="1008360" cy="2016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7164360" y="980640"/>
            <a:ext cx="287280" cy="57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524720" y="378936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Выбор цв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940360" y="2349360"/>
            <a:ext cx="1656000" cy="17272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7019640" y="4076640"/>
            <a:ext cx="576360" cy="289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564000" y="386064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Название диа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421488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Цвет названия диа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95640" y="457524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Размер шриф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494172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Вид диа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30064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Цвет ф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213080" y="558972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Выбор шриф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бор цвета – подтверждается нажатием на нужный цвет в табли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4000" y="2060640"/>
            <a:ext cx="8316720" cy="37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смотр результа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8734680" cy="50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948360" y="1628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Масштаб изобра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916360" y="1773360"/>
            <a:ext cx="3311280" cy="503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227640" y="1989000"/>
            <a:ext cx="792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47640" y="1197000"/>
            <a:ext cx="25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Редактировать диаграм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87640" y="1413000"/>
            <a:ext cx="2017800" cy="431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12000" y="1052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Вернуться на главную страниц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076720" y="1413000"/>
            <a:ext cx="1079640" cy="431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60930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Сохранить диаграмму как рису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284720" y="609300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лучить код диаграммы для вставки в блог или на сай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5805360"/>
            <a:ext cx="1008360" cy="358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52720" y="5734080"/>
            <a:ext cx="2303640" cy="503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спешной работы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4T09:49:40Z</dcterms:created>
  <dc:creator>Maxim</dc:creator>
  <dc:description/>
  <dc:language>en-US</dc:language>
  <cp:lastModifiedBy>Maxim</cp:lastModifiedBy>
  <dcterms:modified xsi:type="dcterms:W3CDTF">2011-11-24T10:19:02Z</dcterms:modified>
  <cp:revision>2</cp:revision>
  <dc:subject/>
  <dc:title>PieColor </dc:title>
</cp:coreProperties>
</file>